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09A00-0400-4C42-92F0-57DF029AC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CF57-B244-4817-B600-7405DEEF5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5FBE-0144-4EDA-8DC8-1306108AB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D6FE-113E-4731-849D-1919B069C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8EA4-B951-40BD-A14D-903CA452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0F88-060E-4809-9EC9-2E0FC55E8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E0C9-5639-46D5-9CFF-9B92C742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9F2-91A7-40A1-BFD8-033E0869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C492-D0E3-43E4-8B8C-E580C1B77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22655-15A3-4533-8FFD-87668EBE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BFDA-FD92-401E-84CF-923077C0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D4E-5032-41E2-B12F-CD40E9CD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21FD9-B7E5-4075-A0B8-9C68390FF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vezetés a magas szintű programozási nyelvek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Windows scrip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 tömbindex 0 –val kezdőd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4 elemű töm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m újtömb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 létrehozása értékadás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épek = Array("atl01", "atl02", "atl03", "atl04"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elem beállítá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mbnév(index) = újért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Gépek(2) = „pc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ájlkezelés - szövegfájl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j szövegfájl létrehozá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t objFSO= CreateObject("Scripting.FileSystemObject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t objFile= objFSO.CreateTextFile("Log.txt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étező szövegfájl megnyitá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t objFSO = CreateObject("Scripting.FileSystemObject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et objFile = objFSO.OpenTextFile("log.txt",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övegfájlba ir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File.WriteLine(„szöveg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övegfájlból olvasás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strLine =objFile.Read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Megnyitott fájlok lezárása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objFile.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tózó deklarálá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im változóné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Változónév = érté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írás és Bevit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képernyőre való kiíratá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script.echo „szöveg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wscript.echo változó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A billentyűzetről való bevite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Arial"/>
              </a:rPr>
              <a:t>Változónév = inputbox(„szöveg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klusok - előtesztel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íg a feltétel iga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o while felté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iklus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Amíg a feltétel igazzá nem váli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Do until felté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iklusm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Loo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klusok – utótesztelő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Ciklusm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Loop until feltét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klusok - számlál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m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im növekmé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=kezdő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Do while i&lt;=vég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=i+növekmé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klus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 más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For i = kezdőérték to végérté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klusma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áltozók konvertálá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Egész szám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int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Logikai érték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bool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Byte tipúss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byte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énznemm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cur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Dátumm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date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zövegg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Cstr(változónév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ága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gyszer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f logikai feltétel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gaz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Hamis á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If logikai feltétel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Igaz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Hamisá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End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ágazás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öbbszörö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Select Case változóné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1 strC = "Other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2 strC = "Unknow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3 strC = "Idle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4 strC = "Printing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5 strC = "Warming Up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Case Else strC = „egyéb.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End Sele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6T09:51:39Z</dcterms:created>
  <dc:creator>Nagymáté Péter</dc:creator>
  <dc:description/>
  <dc:language>en-US</dc:language>
  <cp:lastModifiedBy>Nagymáté Péter</cp:lastModifiedBy>
  <dcterms:modified xsi:type="dcterms:W3CDTF">2006-01-06T11:12:48Z</dcterms:modified>
  <cp:revision>2</cp:revision>
  <dc:subject/>
  <dc:title>Bevezetés a magas szintű programozási nyelvekbe</dc:title>
</cp:coreProperties>
</file>